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36291-AAF1-4F72-B7BC-B4CC553098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76327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6280" y="4192200"/>
            <a:ext cx="76327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BF0AA-42F3-4C0C-9A82-1FC5156FE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45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7320" y="1938240"/>
            <a:ext cx="37245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6280" y="4192200"/>
            <a:ext cx="37245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7320" y="4192200"/>
            <a:ext cx="37245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E1460-6F25-46B4-8F2A-107188E6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24573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6760" y="1938240"/>
            <a:ext cx="24573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07600" y="1938240"/>
            <a:ext cx="24573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6280" y="4192200"/>
            <a:ext cx="24573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6760" y="4192200"/>
            <a:ext cx="24573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07600" y="4192200"/>
            <a:ext cx="24573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26869-5DD0-40F9-9FA6-8FBB2AC4A3E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46280" y="1938240"/>
            <a:ext cx="76327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76327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456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7320" y="1938240"/>
            <a:ext cx="372456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71040" y="635040"/>
            <a:ext cx="78044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45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7320" y="1938240"/>
            <a:ext cx="372456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46280" y="4192200"/>
            <a:ext cx="37245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6280" y="1938240"/>
            <a:ext cx="76327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31CA6-E93D-44B7-BA42-BF497F18F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456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7320" y="1938240"/>
            <a:ext cx="37245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57320" y="4192200"/>
            <a:ext cx="37245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45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7320" y="1938240"/>
            <a:ext cx="37245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46280" y="4192200"/>
            <a:ext cx="76327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76327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46280" y="4192200"/>
            <a:ext cx="76327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45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7320" y="1938240"/>
            <a:ext cx="37245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46280" y="4192200"/>
            <a:ext cx="37245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57320" y="4192200"/>
            <a:ext cx="37245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24573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26760" y="1938240"/>
            <a:ext cx="24573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07600" y="1938240"/>
            <a:ext cx="24573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746280" y="4192200"/>
            <a:ext cx="24573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26760" y="4192200"/>
            <a:ext cx="24573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07600" y="4192200"/>
            <a:ext cx="24573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76327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84A8A-C3B1-473E-89AA-D39B324A8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456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7320" y="1938240"/>
            <a:ext cx="372456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B49ED-124B-4A9D-B798-BF3BB9389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4C172-83EE-4D06-8DD9-0DF89EA61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71040" y="635040"/>
            <a:ext cx="78044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41A03-2FAA-4806-A3BB-619E1A44A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45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7320" y="1938240"/>
            <a:ext cx="372456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6280" y="4192200"/>
            <a:ext cx="37245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D2F6A-966D-4A33-9337-E08EEABB9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456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7320" y="1938240"/>
            <a:ext cx="37245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7320" y="4192200"/>
            <a:ext cx="37245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10E97-9A99-4B00-A191-BA9F00DDE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45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7320" y="1938240"/>
            <a:ext cx="37245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6280" y="4192200"/>
            <a:ext cx="76327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470B1-129E-4B48-B459-4C20B6A57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3280"/>
            <a:ext cx="21286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290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15C364-1405-4C7E-9B2F-0FA826FDF99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46280" y="1938240"/>
            <a:ext cx="76327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14479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8920" indent="-355680" algn="ctr">
              <a:lnSpc>
                <a:spcPct val="100000"/>
              </a:lnSpc>
              <a:tabLst>
                <a:tab algn="l" pos="0"/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502920"/>
                <a:tab algn="l" pos="9601200"/>
                <a:tab algn="l" pos="10058400"/>
                <a:tab algn="l" pos="105156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18.2</a:t>
            </a:r>
            <a:br>
              <a:rPr sz="6000"/>
            </a:b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Challenging </a:t>
            </a:r>
            <a:br>
              <a:rPr sz="6000"/>
            </a:b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Segregatio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317520"/>
            <a:ext cx="78087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. Kennedy and Civil Rights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4572000" cy="51800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1. Promised to support                  CR during campaign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2. Cautious in office,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             need support from    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             Southern senators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3. Created the 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Committee on Equal                  Employment 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Opportunity (CEEO)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i. Stop discrimination in 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hiring and promotions in the      Fed. Gov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16480" y="1600200"/>
            <a:ext cx="3598920" cy="502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71400" y="679320"/>
            <a:ext cx="780912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4. Justice Departmen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57280" y="1600200"/>
            <a:ext cx="4014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720720"/>
                <a:tab algn="l" pos="1444680"/>
                <a:tab algn="l" pos="2171880"/>
                <a:tab algn="l" pos="2892600"/>
                <a:tab algn="l" pos="361620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10055160"/>
                <a:tab algn="l" pos="10512360"/>
                <a:tab algn="l" pos="10514160"/>
                <a:tab algn="l" pos="105156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a. Run by Robert F.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       Kennedy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720720"/>
                <a:tab algn="l" pos="1444680"/>
                <a:tab algn="l" pos="2171880"/>
                <a:tab algn="l" pos="2892600"/>
                <a:tab algn="l" pos="361620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10055160"/>
                <a:tab algn="l" pos="10512360"/>
                <a:tab algn="l" pos="10514160"/>
                <a:tab algn="l" pos="105156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i. **Filed lawsuits across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 the South against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 those that stopped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 voter registration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720720"/>
                <a:tab algn="l" pos="1444680"/>
                <a:tab algn="l" pos="2171880"/>
                <a:tab algn="l" pos="2892600"/>
                <a:tab algn="l" pos="361620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10055160"/>
                <a:tab algn="l" pos="10512360"/>
                <a:tab algn="l" pos="10514160"/>
                <a:tab algn="l" pos="105156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b. JFK forced Interstate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       Commerce Commission      to integrate bus 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720720"/>
                <a:tab algn="l" pos="1444680"/>
                <a:tab algn="l" pos="2171880"/>
                <a:tab algn="l" pos="2892600"/>
                <a:tab algn="l" pos="361620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10055160"/>
                <a:tab algn="l" pos="10512360"/>
                <a:tab algn="l" pos="10514160"/>
                <a:tab algn="l" pos="105156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terminals. 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57680" y="1600200"/>
            <a:ext cx="4257720" cy="480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8087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5. James Meredith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40543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. Air Force vetera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. Wanted to register at 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       the University of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ississippi.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. Denied entrance by 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 Gov. Ross Barnett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. 500 federal marshals 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         and several thousand          troops sent by JFK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861080" y="1371600"/>
            <a:ext cx="3597120" cy="488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1400" y="679320"/>
            <a:ext cx="780912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D. Violence in Birmingham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5208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1. Demonstration             lead by Dr. King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2. Dr. King arrested after 8 days of protesting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a. “Letter from 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Birmingham Jail”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3. After Dr. King's 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release, the protest          grew even more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43400" y="1600200"/>
            <a:ext cx="4572000" cy="480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0010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7320" cy="7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E. Civil Rights Act of 1964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45920" y="1599840"/>
            <a:ext cx="372564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1. Alabama Gov. George Wallace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a. Denied AA students entrance to U of Alabama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2. Murder of civil rights worker brought JFK to announce the bill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049720" y="1371600"/>
            <a:ext cx="3408480" cy="488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3. March on Washington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564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. August 28th, 1963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b. Created to help support bill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. MLK Jr. delivered his “I Have a Dream” speech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i. March and speech built momentum for the bill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657680" y="1600200"/>
            <a:ext cx="4029120" cy="480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Lesson Objectives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720720"/>
                <a:tab algn="l" pos="1444680"/>
                <a:tab algn="l" pos="2171880"/>
                <a:tab algn="l" pos="2892600"/>
                <a:tab algn="l" pos="3616200"/>
                <a:tab algn="l" pos="4340160"/>
                <a:tab algn="l" pos="5064120"/>
                <a:tab algn="l" pos="5788080"/>
                <a:tab algn="l" pos="6515280"/>
                <a:tab algn="l" pos="7236000"/>
                <a:tab algn="l" pos="7959600"/>
                <a:tab algn="l" pos="8226360"/>
                <a:tab algn="l" pos="8683560"/>
                <a:tab algn="l" pos="9140760"/>
                <a:tab algn="l" pos="9597960"/>
                <a:tab algn="l" pos="10055160"/>
                <a:tab algn="l" pos="10512360"/>
                <a:tab algn="l" pos="10514160"/>
                <a:tab algn="l" pos="105156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1. The students will be able to explain </a:t>
            </a: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   the effect of the Sit-In Movement.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720720"/>
                <a:tab algn="l" pos="1444680"/>
                <a:tab algn="l" pos="2171880"/>
                <a:tab algn="l" pos="2892600"/>
                <a:tab algn="l" pos="3616200"/>
                <a:tab algn="l" pos="4340160"/>
                <a:tab algn="l" pos="5064120"/>
                <a:tab algn="l" pos="5788080"/>
                <a:tab algn="l" pos="6515280"/>
                <a:tab algn="l" pos="7236000"/>
                <a:tab algn="l" pos="7959600"/>
                <a:tab algn="l" pos="8226360"/>
                <a:tab algn="l" pos="8683560"/>
                <a:tab algn="l" pos="9140760"/>
                <a:tab algn="l" pos="9597960"/>
                <a:tab algn="l" pos="10055160"/>
                <a:tab algn="l" pos="10512360"/>
                <a:tab algn="l" pos="10514160"/>
                <a:tab algn="l" pos="105156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2. The students will be able to discuss </a:t>
            </a: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   the effect of the Birmingham         </a:t>
            </a: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   protests.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720720"/>
                <a:tab algn="l" pos="1444680"/>
                <a:tab algn="l" pos="2171880"/>
                <a:tab algn="l" pos="2892600"/>
                <a:tab algn="l" pos="3616200"/>
                <a:tab algn="l" pos="4340160"/>
                <a:tab algn="l" pos="5064120"/>
                <a:tab algn="l" pos="5788080"/>
                <a:tab algn="l" pos="6515280"/>
                <a:tab algn="l" pos="7236000"/>
                <a:tab algn="l" pos="7959600"/>
                <a:tab algn="l" pos="8226360"/>
                <a:tab algn="l" pos="8683560"/>
                <a:tab algn="l" pos="9140760"/>
                <a:tab algn="l" pos="9597960"/>
                <a:tab algn="l" pos="10055160"/>
                <a:tab algn="l" pos="10512360"/>
                <a:tab algn="l" pos="10514160"/>
                <a:tab algn="l" pos="105156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3. The students will be able to explain </a:t>
            </a: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   what the CRA of 1964 did for African   Americans. 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71040" y="679320"/>
            <a:ext cx="780732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4. Bill becomes a Law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45920" y="1937880"/>
            <a:ext cx="37256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a. Problems in the Senate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i. Filibuster from Southern Dems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b. President Johnson used background as Senator to pressure Congress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c. Bill signed on July 2nd, 1964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657680" y="1600200"/>
            <a:ext cx="4257720" cy="480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**d. Most Comprehensive </a:t>
            </a:r>
            <a:br>
              <a:rPr sz="4000"/>
            </a:b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ivil Rights Law 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763560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i. Fed. Gov could prevent discrimination in many areas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ii. Segregation illegal in most public  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laces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iii. End school segregation and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discrimination in the workplace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iv. Equal Employment Opportunity Commission (EEOC)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-Monitored ban on job discrimination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F. Voting Rights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12800"/>
            <a:ext cx="37260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1. 24</a:t>
            </a:r>
            <a:r>
              <a:rPr b="0" lang="en-US" sz="2800" spc="-1" strike="noStrike" baseline="33000">
                <a:solidFill>
                  <a:srgbClr val="333333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Amendment eliminated the poll tax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2. The Selma March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. March 7th, 1965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b. Selma to Montgomery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. 500 protester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3. Protesters beat by police in front of t.v. cameras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343400" y="182880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458200" cy="64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458200" cy="64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1040" y="228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4. Voting Rights Act of 1965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45920" y="1371600"/>
            <a:ext cx="3725640" cy="50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a. Passed August 3rd, 1965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i. Federal examiners sent to register voters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ii. Literacy tests gone 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b. Dramatic Results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i. 250,000 registered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c. Movement shifted focus to social/economic issues. 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572000" y="1371600"/>
            <a:ext cx="4114800" cy="502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2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A. The Sit-In Movemen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8240"/>
            <a:ext cx="401472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1. Started by four African  American teenage boys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a. Refused to move from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the counter until they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were served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2. More than 100 cities had              sit-ins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3. Largely put together by       college students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657680" y="1828800"/>
            <a:ext cx="4257720" cy="434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7620120" cy="601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1400" y="425160"/>
            <a:ext cx="7809120" cy="156204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3600" spc="-1" strike="noStrike">
                <a:solidFill>
                  <a:srgbClr val="99284c"/>
                </a:solidFill>
                <a:latin typeface="Arial"/>
              </a:rPr>
              <a:t>4. Student Nonviolent </a:t>
            </a:r>
            <a:br>
              <a:rPr sz="3600"/>
            </a:br>
            <a:r>
              <a:rPr b="1" i="1" lang="en-US" sz="3600" spc="-1" strike="noStrike">
                <a:solidFill>
                  <a:srgbClr val="99284c"/>
                </a:solidFill>
                <a:latin typeface="Arial"/>
              </a:rPr>
              <a:t>Coordinating Committee </a:t>
            </a:r>
            <a:br>
              <a:rPr sz="3600"/>
            </a:br>
            <a:r>
              <a:rPr b="1" i="1" lang="en-US" sz="3600" spc="-1" strike="noStrike">
                <a:solidFill>
                  <a:srgbClr val="99284c"/>
                </a:solidFill>
                <a:latin typeface="Arial"/>
              </a:rPr>
              <a:t>(SNCC)</a:t>
            </a: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564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720720"/>
                <a:tab algn="l" pos="1444680"/>
                <a:tab algn="l" pos="2171880"/>
                <a:tab algn="l" pos="2892600"/>
                <a:tab algn="l" pos="361620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10055160"/>
                <a:tab algn="l" pos="10512360"/>
                <a:tab algn="l" pos="10514160"/>
                <a:tab algn="l" pos="105156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i. Students from the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   South were the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720720"/>
                <a:tab algn="l" pos="1444680"/>
                <a:tab algn="l" pos="2171880"/>
                <a:tab algn="l" pos="2892600"/>
                <a:tab algn="l" pos="361620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10055160"/>
                <a:tab algn="l" pos="10512360"/>
                <a:tab algn="l" pos="10514160"/>
                <a:tab algn="l" pos="105156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majority of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720720"/>
                <a:tab algn="l" pos="1444680"/>
                <a:tab algn="l" pos="2171880"/>
                <a:tab algn="l" pos="2892600"/>
                <a:tab algn="l" pos="361620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10055160"/>
                <a:tab algn="l" pos="10512360"/>
                <a:tab algn="l" pos="10514160"/>
                <a:tab algn="l" pos="105156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members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2" marL="107784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720720"/>
                <a:tab algn="l" pos="1444680"/>
                <a:tab algn="l" pos="2171880"/>
                <a:tab algn="l" pos="2892600"/>
                <a:tab algn="l" pos="361620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10055160"/>
                <a:tab algn="l" pos="10512360"/>
                <a:tab algn="l" pos="10514160"/>
                <a:tab algn="l" pos="105156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-Also had whit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07784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720720"/>
                <a:tab algn="l" pos="1444680"/>
                <a:tab algn="l" pos="2171880"/>
                <a:tab algn="l" pos="2892600"/>
                <a:tab algn="l" pos="361620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10055160"/>
                <a:tab algn="l" pos="10512360"/>
                <a:tab algn="l" pos="10514160"/>
                <a:tab algn="l" pos="105156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ember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720720"/>
                <a:tab algn="l" pos="1444680"/>
                <a:tab algn="l" pos="2171880"/>
                <a:tab algn="l" pos="2892600"/>
                <a:tab algn="l" pos="361620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10055160"/>
                <a:tab algn="l" pos="10512360"/>
                <a:tab algn="l" pos="10514160"/>
                <a:tab algn="l" pos="105156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720720"/>
                <a:tab algn="l" pos="1444680"/>
                <a:tab algn="l" pos="2171880"/>
                <a:tab algn="l" pos="2892600"/>
                <a:tab algn="l" pos="361620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10055160"/>
                <a:tab algn="l" pos="10512360"/>
                <a:tab algn="l" pos="10514160"/>
                <a:tab algn="l" pos="105156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ii.**Sent volunteers to         the Deep South, rural areas, to help voter registration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657680" y="2057400"/>
            <a:ext cx="4257720" cy="434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8087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5. Voter Education Projec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45920" y="1143000"/>
            <a:ext cx="372564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. **Push focus to the     rural areas of the Deep South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b. Dangerous to travel to the South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i. 3 SNCC workers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   murdered in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   1964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**6. Main Goal of CRM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Integrate public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    places and the right       to vot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657680" y="1828800"/>
            <a:ext cx="4029120" cy="434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0010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839440" cy="6458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0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1400" y="679320"/>
            <a:ext cx="780912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B. The Freedom Riders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45920" y="1937880"/>
            <a:ext cx="372564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1.**Protested bus 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terminal 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egregation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2.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May 1961, first FR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    group went down   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    South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i. Met by angry white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    mobs; bombed buses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3. Violence against the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    FRs shocked 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Americans and JFK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657680" y="1828800"/>
            <a:ext cx="425772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1T17:13:23Z</dcterms:created>
  <dc:creator>Milner Lab User</dc:creator>
  <dc:description/>
  <dc:language>en-US</dc:language>
  <cp:lastModifiedBy>School District U46</cp:lastModifiedBy>
  <dcterms:modified xsi:type="dcterms:W3CDTF">2011-04-08T12:28:31Z</dcterms:modified>
  <cp:revision>5</cp:revision>
  <dc:subject/>
  <dc:title>18.2 Challenging Segregation</dc:title>
</cp:coreProperties>
</file>